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0B6-CCDC-4D87-83C6-059E8110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7D0-0CE5-43DF-AA2B-CD889D7A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0FC-5723-4BD1-87E9-B74CE322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7C1-98A8-41F4-B3F6-8F6C6A9F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37BF-4221-4875-9A02-143A9202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76C7-FD1B-4086-A0B4-0B1D269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FF75-85CA-473F-A6B6-0168C3D9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BCED-EF2D-429D-BC69-46605703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D979-0C5A-4ABC-A929-E4F3561D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B25D-0E2F-41B4-8FBB-F0B46F96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7830-058B-4BA2-8034-C5F747C0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A41-B285-4AA3-96FC-A9118EB3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149A-393F-4E8F-82E4-D3EA6007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1A1B-018B-4546-962C-DF14B131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F7B8-9FBF-4823-92CB-7C1A5F7F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24C9-FB76-4910-A3C0-62F6A163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8488-4A34-428F-BAC9-3F9E584C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089-3FCD-47B0-A5E2-6F104F07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058-FBCD-47F5-8229-C2A77B76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EA4-755D-4243-AF43-D1510296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08B-B207-49A3-83A3-A66883E1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D34-644A-4718-98B8-D25F7AD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6C4-351C-4B31-9460-8E552253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699-C13F-49BF-98F1-04D8D22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880D08-FA20-4430-AD26-B2B7CE79CF31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C5D61-E7F3-416F-9B30-C774AD16EDF4}" type="slidenum"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altavista.com/" TargetMode="External"/><Relationship Id="rId3" Type="http://schemas.openxmlformats.org/officeDocument/2006/relationships/hyperlink" Target="http://www.yahoo.com/" TargetMode="External"/><Relationship Id="rId4" Type="http://schemas.openxmlformats.org/officeDocument/2006/relationships/hyperlink" Target="http://www.dogpile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ensus.gov/stab/www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88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Preparing the Public Speec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ibrary research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ibrar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talog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eriodical Datab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ference Wo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google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altavista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yahoo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ww.dogpile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www.metacrawler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* Be sure to use a “valid” si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view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o it ahead of 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e prepared with ques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e profess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e friend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e a good liste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ake good notes (or record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nd a “thank you” let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upporting Ide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ecide what ideas you need to sup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ased on your audience, topic and purpo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stimo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ypes of Examp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ferred to in a passage to illustrate a point; can introduce a topic; pile them one after the other to create a strong impression (brief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Narratives or anecdotes which pull the listener into the story (extended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escribing an imaginary situation (hypothetical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ips for Using Examp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arify unfamiliar and complex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inforce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ersonalize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ake examples viv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actice delive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hese to create an overall impact on listen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ften cited in passing to strengthen or clarify a po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ife examples can be stacked to show seriousness of an iss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ips for using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hem to quantify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hem sparing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hem for most important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dentify the 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xplain the statist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und off complicated sta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visual aids to clarify statistical tre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ere to find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tatistical Yearbook ( by the U.N.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census.gov/stab/ww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uinness Book of World Record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estimo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xpert testim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eer testim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Quoting vs. Paraphra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e quotations when…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. They are brie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.  They convey meaning better than you c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.  They are eloquent, witty or compell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entral Idea: This is the one idea you want your audience to remember, long after your speech is ov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General Purpose: To inform or to persuad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pecific purpose: A one-sentence statement about your goal for what the audience should lear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ips for Using Testimo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Quote or paraphrase accurat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estimony from qualified 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estimony from unbiased 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en using quote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dentify the people quoted or paraphras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tate the full name and qualifications the first time a person is quo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ources of testimo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OO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JOURN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PECIFIC EXPERTS IN A FIE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.g. faculty members, board members, researchers, professionals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Verdana"/>
              </a:rPr>
              <a:t>Speaking to Inform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peaking to Inf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ings to keep in mind when speaking to inform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imit a speech to 2-5 main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eep the main points separ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y to use the same pattern of wording for each main po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alance the amount of time for each main po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n informative speech also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.  Must be presented clear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2.  Must be presented accurat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3.  Must be engaging and keep the audience interes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Four major types of Informative Speech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speech that talks about visible, tangible and stable objects (e.g. specific people, trains, comic strips and the U.S. army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speech about processes (e.g. how to set a table, how to put a resume together, how hurricanes develop, how rugs are made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speech about events (anything that happens or is regarded as a happening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e.g. Holocaust, civil rights movement, mountain climbing, Battle of Little Big Hor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speech about concepts (typically things that are abstract like ideas, principles, beliefs, theori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e.g. Confucianism, religious beliefs, theories of psych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Process of Organizing the Speech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evelop a purpose statement for the speech in order to focus on one aspect of the topic or subjec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 inform my audience about the major achievements of Fredrick Dougl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 inform my audience of the major steps in the classic Japanese tea cerem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 inform my audience about why so many lives were lost when the Titanic san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Identify the Central Idea of the Spee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redrick Douglas became one of the greatest figures in American history even though he was born into slave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ere are five major steps in the classic Japanese tea ceremon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ability to remove passengers and crew from the Titanic caused 2/3rds of those on board to di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eneral Purpo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eep the audience in mind (3 Ws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om (To whom am I speaking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 (What do I want them to know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How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What is the most effective way to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sent my speec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reate a bond with the aud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actice in the classr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rganize the main poi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pat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:  Northwest Ohio is largely farmland.  Northeast is largely Industrial.  Southwest Ohio has a service econom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op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:  Cars can be powered by electricity; cars can be powered by a mix of electricity and gas; cars can be powered by hydrog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hronolog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ings to keep in mind when speaking to infor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on’t overestimate what the audience know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late the subject directly to the audie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on’t be too technical or use too much jarg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void abstrac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Verdana"/>
              </a:rPr>
              <a:t>Speaking to Persuad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ree things to keep in m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Of all the kinds of public speaking, persuasion is the most complex and the most challeng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ersuasive Speaking occurs in a hostile environment where listeners try to find every reason not to agree with yo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No matter how expert you are on the topic, no mater how skillfully you prepare the speech, no matter how captivating your delivery is, some listeners will not agree with yo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ree types of persuasive speech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ersuasive speeches on questions of fac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-Present one view of the facts as persuasively as possible (e.g. persuading the audience that genetically engineered crops pose serious dangers to the environment and to human health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ersuasive speeches on questions of valu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Establish the standards for your value judgment and then apply those standards to the subject of your speech (e.g. if your argument is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Verdana"/>
              </a:rPr>
              <a:t>bicycle riding is the ideal form of land transportation,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you first need to identify the standards for an ideal form of land transportation and then show how biking measures up against those 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ersuasive speeches on questions of policy.  Questions of policy inevitably involve questions of fact and may also involve questions of val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Verdana"/>
              </a:rPr>
              <a:t>FIVE STEPS IN MONROE’S MOTIVATED SEQUE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.  ATTENTION: get the attention of your audience with a detailed story, shocking example, dramatic statistic, quotation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2.  NEED:  state the problem with the existing situation and illustrate it with strong supporting materials, such as statistics, examples, and testimo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3.   SATISFACTION:  present your plan/solution to the problem and show how it will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4.  VISUALIZATION: show how the audience will profit from your policy liste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5.  ACTION: Say exactly what you want the audience to do and how to do it.  Then conclude with a final stirring appeal that reinforces their commitment to a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nalyzing the Audi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eep the audience in mind (3 Ws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om (To whom am I speaking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 (What do I want them to know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How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What is the most effective way to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sent my speec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reate a bond with the aud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actice in the classr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nalyzing the Audi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eep the audience in mind (3 Ws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om (To whom am I speaking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 (What do I want them to know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How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What is the most effective way to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sent my speec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reate a bond with the aud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actice in the classr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Demographic Audience Analys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xual Ori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acial, Ethnic, and Cultural Backgrou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lig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up membersh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ispos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ward the speaker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 confi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ct compet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ct interes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ward the occasion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olitical Spee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erm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fter Dinner Spee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Learning &amp; Adapting about the audi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terview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Questionnai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e things from the other person’s point of 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ake yourself clear, appropriate, and convincing as pos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to gather your material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Yours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o directly to the source  (primary resource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-int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o to another source written by someone else (secondary source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-Internet, books, magazines, newspapers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bm</dc:creator>
  <dc:description/>
  <dc:language>en-US</dc:language>
  <cp:lastModifiedBy>ibm</cp:lastModifiedBy>
  <cp:revision>0</cp:revision>
  <dc:subject/>
  <dc:title>Preparing the Public Speech</dc:title>
</cp:coreProperties>
</file>